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E6DF1-7D0E-4AC4-A697-755EA089B7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1C905-F466-4058-BF34-BC024216BB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47947-5603-408E-B592-BDAC6DD030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A910B-20A2-42E0-B25F-7F5411B2D4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02EA8-C373-42E9-AA0F-07A4D10335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14900-4D26-4717-87EC-4697E88345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D2769-6287-4BA1-91C8-0032C24133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43646-B975-4891-9827-E2DE893A02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7C78F-46C9-4AE2-9789-14080048F2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2D779-25EC-49C7-B383-D7B3244089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D8C53-F4AF-4E30-99B0-747AA8C41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CB04B-70D2-4A79-8232-CB3F632C2C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ogo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77547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4266720" y="65527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E31F8BEC-75F5-458D-B3B3-A3FB7ED98F6B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ogo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99436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4160" y="1143000"/>
            <a:ext cx="281916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gress N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16000" y="1346040"/>
          <a:ext cx="8458200" cy="7061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346040"/>
                    <a:ext cx="8458200" cy="706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16:27Z</dcterms:created>
  <dc:creator>MDamms</dc:creator>
  <dc:description/>
  <dc:language>en-US</dc:language>
  <cp:lastModifiedBy>Jürgen Schmitz</cp:lastModifiedBy>
  <cp:lastPrinted>2003-07-02T13:24:00Z</cp:lastPrinted>
  <dcterms:modified xsi:type="dcterms:W3CDTF">2003-10-07T09:47:54Z</dcterms:modified>
  <cp:revision>84</cp:revision>
  <dc:subject/>
  <dc:title>No Slide Title</dc:title>
</cp:coreProperties>
</file>